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CB1C-4A5A-40F3-92B0-C43F717F9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5535-11A6-41F1-A2C5-85EAD03B3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6A25-391F-400A-88C8-631CC11B2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3090-7660-4AC5-9879-905B788A3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819B-5B3A-422A-8F0D-EA63FFEE3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2807-D273-4E91-AA45-93220CFFF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E1EC-3148-4580-AEEF-5A94BBA64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9FA3-D410-4B79-BC02-042E93D57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8B72-084E-47DA-9302-AB7F9F605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4B93-C496-41C1-9E45-01D920C30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AAD0-D2BE-4A32-827F-699AAAE23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24DD-1246-4717-8F94-B91CA1BC7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8063E-49CE-47F0-9C94-2B1A62A3290E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174 Keby som nema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rahý Pane, teb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by som nema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rahý Pane, teb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rv tvoju, v ktorej dal si mi sám seba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de by som našiel hriechov odpusteni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vykúpeni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ez teba srdce nemá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koj pravý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en ty ho môžeš zmeni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lého zbaviť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en ty si moje útočište, skal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d všetko stál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Úprimne chváli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cem ťa večne, Pan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 milosť, ktorá ku mn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 kríža van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y si ma svojou sväto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rvou obmy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pásu mi vydoby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ám túžbu, Krist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eba nasledova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vďakyplným srdcom oslavova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 obeť tvoju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ásku nekonečnú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 spásu večnú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6-11T15:18:45Z</dcterms:modified>
  <cp:revision>23</cp:revision>
  <dc:subject/>
  <dc:title>Je veľký náš Pán, on slávy je Kráľ Nech do všetkých strán  spev vrúcnych znie chvál.</dc:title>
</cp:coreProperties>
</file>